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AAC8546-793F-490C-B7F2-BB2DDE3F784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C4B3635-4501-400B-8277-CE8A7954CF3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A34F93E-C2BE-45C3-A242-E6771EE646D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44FD07B-D8A8-4E16-BDAA-2EC8FEAFBE8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B0654D0-31C9-4758-8C16-7E6FB0CBC95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F1E5E42-64C0-4B13-8E12-7E41BB2024E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915FB5D-AD9E-4C40-955E-5A1F9E36300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8C74834-3454-4E6E-8A3D-3218AEBEAF3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47F6989-ACD6-4930-BDE3-7639C61D8D4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51DD81C-81DF-488A-AB84-6BDB90B5F21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F1C0984-35ED-41EC-945B-521016EF789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1533227-7E66-4B1B-84D6-B1CD1F671D1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1EAF298-53F2-4ACC-AFB8-90310605FC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E4EC8A6-763F-4203-B50C-5EBAD44DFF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8CE1FD2-6BA7-4205-B9C4-10FDE2C25E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D5D2884-E32F-4E3E-A1B8-CF8C40BCFC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F64D108-8649-4CD5-B434-77CBD5129B2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B2F1768-3D0F-41AA-A594-CC4359A4D67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ECFB7DC-6BA6-4EAF-A70F-1E3EB09DFD7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E838CB4-2B4C-4967-A7B3-9E392C6B5B7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2C4F16D-0351-4B6D-A432-3913A30AE1C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B327310-5FEC-420E-AF87-37CE76E5699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7C40CFF-9CA1-4D3B-99FD-C3F19F250E0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6E62E0F-7CC1-4DE0-A371-B2D454976C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71B1C18-5114-4C22-AFB8-31EAF0C631E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F46FE8B-22B4-41B9-B4D6-A16648F8228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DB27868-3600-4B89-84D8-A804E07D240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0744CCC-F4BA-4186-8F90-194933703C0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4EBBF24-5276-4BE3-AA19-B4BE332750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A3A74C-3F5A-46C7-AE8C-ABEA3199C0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A7854B-8B40-4F39-82F2-08E2D0E698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AFB59EF-513D-4830-95AD-C7F604B0B1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B3DA10-5029-4DC0-AF48-1F270A7B5C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EFEAF5-EA25-4017-814B-ED826A931A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3FDD73-04E9-4999-B162-24A5E52D9B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E8DF93-10DE-4CB4-8B95-1C718C5F09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1ADEA-EE72-42C7-8EBF-48F885D4A27A}"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8F24E-3E6A-4027-AEA7-376899B5D9A2}"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FD24728-A55A-483E-BC51-7FFC6F25FAA2}"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500A263-ACDC-408A-A743-CFC88F5D4B5E}"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B91D08D-9EC9-4667-A1E2-BF49D4593014}"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593F123-CC32-429D-BCD2-2DF96FE97CA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043E84E-436B-4F96-B87F-23CD497214AD}"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9798381-9F77-474E-8A04-D2D90BD992B7}"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C8BDC50-A773-4830-A41F-D2D590693EB8}"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CFE76FC-A09A-4C25-A342-31973E6AFAE4}"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C68D832-885B-46DE-B47A-FFDE0AF0473E}"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CD75690-7056-4D89-969F-3BEE86F4D18E}"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258DFB1-40ED-4D4C-9074-DFFFE327509E}"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0C1060FB-CD0C-4BFE-8A78-18C9B78CF3FF}"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8162F3E-4D91-4496-8C63-413190238E2B}"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3AB428A-B10D-40C1-9643-4CEFF6936855}"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7ACFEE1-EB04-4347-B6C6-E93F9914B21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31ACDA8-146E-41A3-A1A2-798549B61C18}"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1021703-5467-4E04-BCED-FE88120E54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CE785EA-B5DC-4CD2-833A-C3C5208EE1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F782D8A-2ECE-423A-A229-A737ED6DB170}"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0DD1BD7-97E9-4013-864D-D245ACF270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1B13775-50E9-4C75-B402-AC855BF563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9AAA31F-283B-442D-B8B1-C114D15D2DBD}"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F473D69-C277-47BF-B2F6-DEDB7AF5D3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F015EC7-58D3-4C36-8E83-E4D789BFF3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5F86696-BEF2-45B5-9C8A-E3BBE72FD4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60C9D6F-C876-4D11-BFDD-AB8089CF58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7BC49A9-D347-4B0A-B80D-FC829A2C220A}"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645C4E5-8FB2-41AC-ACC8-BF8CFDBFEC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D392D58-236C-4839-8154-4CE2E6B79B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3E24B8D-66B0-4054-8B78-28D23514BDA8}"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E0121DD-7B09-481B-9808-8FF1EFB6D9E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88FA246-2DEF-449F-825A-5DBB29AA92A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ACAF8A7-C046-4BBC-A036-9EB89224BAA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167FB7-F738-46E0-A406-EB5BC62DBA0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692D1C0-A1BB-46D4-A592-EBCBF340089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6A1F77A-8897-46FF-8BCD-5100FC1F2B0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632C78E-2ECC-4223-864C-A856FE7C8E0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944CC88-13BF-4655-B10A-9946A7A9A05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1B1386C-7964-4430-AAF5-BBB725550D3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3C4ECE7-75FA-40BB-9C79-DE33D8ED46F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BC1DBD1-0E0B-49A4-881C-85B20A36AE4D}"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EE49B85-F5E9-439E-9C8F-7A79AEBD456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2C76CE6-7A69-4093-8269-B0788A75BC2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CFB96F7-8AA0-4F7E-9ECC-F415F981AD7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45AA6E9-4F48-4020-B2F7-80B72CEC3A0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7F45FC3-01F3-4086-9830-BB767FF775F1}"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0829345-7770-44DB-8FFC-F21B59FF0B35}"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C89249E-2533-4CA5-8BCD-23C88C76320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A9CAA91-62F6-4801-86D9-45DC1AEF3E0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F45F848-8906-44C6-B553-93E6EF8A1077}"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884372F-5B57-4905-A27C-9B4D9322DAD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386F0CA-36E6-44F2-B0A2-064DDC61038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9D7C4CA-10D8-40A2-ACAF-35717F6C1EF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292C63B-7E20-4E5F-A9B4-1C641D59012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DA2BCBC-7A72-4F9B-A7BA-4EA839C90A7A}"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88BB03F-04B5-4363-B87C-D10C436D9004}"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705FE13-503B-458E-8EBE-2656E36473BE}"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2E8A483-E701-4879-A5CB-72D570FCDFF3}"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08480A-22FB-4600-9C9E-9293DE2604EB}"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F00AF6D-B570-403F-BE05-F4AFBE20994D}"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21D8DBC-1FE7-4717-9272-B3F1481BA1CD}"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52C0CA5-A954-4B37-9971-640122AA077C}"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4133E42-C506-452A-85F5-E386BAAA1F70}"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DE5F5A5-B7E5-4715-8F0E-B2B708A1FFB6}"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2D94ABB-E50C-4FCB-AB37-86D04FC9E3C1}"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366C2E3-EDFA-4EAA-AD08-5D716BC72620}"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DE6FFD6-2A29-4764-A5D9-2BD5B85ACFF5}"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D40D935-1D07-4DF2-976F-0A5475DA9497}"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95922FF-EC11-4CC4-85B9-875B69CB3800}"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5A1079F-13AD-4620-9AFE-C32D3E746D79}"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B9ADCA8-3FD4-4E88-ACDB-47AA5E12FB43}"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B62EDC1-0865-4679-B74E-FE7A692C989D}"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6681890-299A-4C3F-82A4-7BAD83BC3F7F}"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15BBE54-5069-4899-AAFF-96A375651AFF}"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4E24265-B0C6-4AFC-A8A4-986A89C9B5C5}"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CE8CB45-FBC9-4A7B-850C-1C14E7EFFE5F}"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43B62A1-3C93-459C-8E80-1D6ECB192B26}"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BEF8686-D89D-4867-9C85-D721607C705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09036F5-DE2E-4831-A8A3-C33725080437}"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9089B2F-B8BE-4C49-8AED-0E2D5F1132C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E62EA6F-C4E0-47A7-9BB0-EA882CA4146D}"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12F610A-297B-478C-AEA8-7D2008D04C47}"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CA2C01C-03CA-4862-9905-157772F635DA}"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C469989-6B4A-459C-B352-7FB2C43D1DC6}"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E73F730-F316-4962-B323-A5EF57173E43}"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744C0FE-BC77-4A61-AA6E-329D0564842F}"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9A3849C-77DD-48ED-A15A-905DB9B95076}"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8823370-9CDE-4000-A51E-E4B4FEA81534}"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2EEDFD9-C215-4F97-8A62-2BD8AFCE39C8}"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3C8ADD7-D8CD-49CD-A348-8A58D6F72888}"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01E3B8D-1026-4E02-A562-32BB0F49206D}"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AEE4340-3707-422A-89BD-DB7A4D5DEA6F}"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88AB5E3-95DB-4436-BC21-DA2BB7A612B0}"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9876D19-CA32-4CCE-A32D-6DBD18ACACD6}"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C131E84-9368-4CD4-8A26-98C6492067D4}"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F5C925B-8E76-4A23-8D43-E033C7A3E0B0}"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70EC735-DE93-48C3-9F1B-8FF6E97BD39F}"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05809DDF-FD5B-4CC3-91F9-D479E5916253}"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7C5965A-D3DE-483C-8D67-BE761DB6C6E7}"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D3AA65F-1CCA-40AF-94FF-274023442445}"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65FC7C0-E652-40FA-B761-06DDC894E2B0}"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1E5A874-9035-4E32-8FD9-D3CF30DD0F5C}"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538DFFE-4FC5-4192-B36C-323165A47196}"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1E8275B-363D-4853-803B-B570A94AA399}"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34873D6-4197-407E-9C1C-43A6A4C5BF01}"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09527F3-2BEE-4026-B131-38497F0FC7BD}"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3F26E48-A244-4ACA-A599-A920836733BC}"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682DFB-4EB4-42B7-BA02-7B2F8A51D526}"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97E16A3-6207-4565-8E2C-1934C1FD379F}"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F7ACA09-3212-4330-AAB4-4C399BB80163}"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C60839-CBAA-4C60-B5DF-2DE0762FB0F5}"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